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3EC-C393-4C6A-9380-EB8FBADF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FA0-5360-4912-9332-FFE34E1C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FEF-57C5-4AFA-AE8A-3EF9ACC7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0A88-E341-48D6-9DF0-F87155A6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9D63-F692-429F-A657-4F621E5C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0AB8-E56B-49D5-9F2E-4AD9417B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BB06-BED4-4ED0-91CC-D49D99C7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9A44-46E8-4753-9B57-71F159BB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3A26-4A40-4EAD-8673-E55D19A6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7F3E-22D0-4417-BEEF-01DB7957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A466-63F5-4102-BEB2-C1894BEE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ED53-03F0-4ABA-B479-BF727015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2A61-6275-401A-8325-8422F2B2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EC4E-6618-472B-ACC2-366D479B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C272-CF4D-406C-8868-4FE07C52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C69E-30AE-4032-A6BE-7D24B3B2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A402-9C40-41E1-B7E4-35F4AD4F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4E7-D4DA-4C12-B754-002519D8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1B3-A160-488E-A401-AC34EF42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009B-E48A-41AE-AEDD-6448FF32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95D-FF89-4D59-9337-98095530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31D-611D-4BAB-A449-3BD4E26A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67A-4BE6-499B-AC59-01B30292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A456-9BE0-4B9D-B4EB-E16DD556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11360" indent="-27252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095840" indent="-2178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34680" indent="-2178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973520" indent="-2178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973520" indent="-21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973520" indent="-21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C97B-8493-4724-B82C-0691E2B4C4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11360" indent="-27252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095840" indent="-2178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34680" indent="-2178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973520" indent="-2178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973520" indent="-21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973520" indent="-21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D852-D15E-4CB8-8E34-3AB9D76D6E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4191120"/>
            <a:ext cx="9372600" cy="1828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ема: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Исследование кабинета начальных классов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419360" y="-360"/>
            <a:ext cx="4724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 Narrow"/>
              </a:rPr>
              <a:t>Школьная научно-практическая конференция школьников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 Narrow"/>
              </a:rPr>
              <a:t>«Родник знаний»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 Narrow"/>
              </a:rPr>
              <a:t>Секция «Начальная школа»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4318560" y="5946840"/>
            <a:ext cx="46108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ы работы:             Зернина Александр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шилина Алён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дорова Ири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тения, рекомендуемые для выращивания в учебных кабинета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1218960"/>
            <a:ext cx="56386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ибискус китайский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Кашицу из цветков используют для лечения карбункулов и язв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Picture 2" descr="сканирование0010"/>
          <p:cNvPicPr/>
          <p:nvPr/>
        </p:nvPicPr>
        <p:blipFill>
          <a:blip r:embed="rId1"/>
          <a:stretch/>
        </p:blipFill>
        <p:spPr>
          <a:xfrm>
            <a:off x="5715000" y="990720"/>
            <a:ext cx="3429000" cy="1946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сканирование0011"/>
          <p:cNvPicPr/>
          <p:nvPr/>
        </p:nvPicPr>
        <p:blipFill>
          <a:blip r:embed="rId2"/>
          <a:stretch/>
        </p:blipFill>
        <p:spPr>
          <a:xfrm>
            <a:off x="5715000" y="2754360"/>
            <a:ext cx="3429000" cy="2198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-360" y="2743200"/>
            <a:ext cx="56386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2960" indent="-2829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уриум Андре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Снижает общее содержание микробов в помещении на 70%, очищает его от формальдегида, толуола и аммиака. Летучие выделения растения подавляют развитие стафилококка, стрептококка и синегнойной палочки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5181480"/>
            <a:ext cx="56386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0240" indent="-30024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егония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Снижает содержание летучих химических соединений в воздухе на 7-10%, микробов на 80%. Нейтрализует пыль и вредные вещества, выделяющиеся из синтепона, ДСП, и других материалов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3" name="Picture 4" descr="сканирование0013"/>
          <p:cNvPicPr/>
          <p:nvPr/>
        </p:nvPicPr>
        <p:blipFill>
          <a:blip r:embed="rId3"/>
          <a:stretch/>
        </p:blipFill>
        <p:spPr>
          <a:xfrm>
            <a:off x="5715000" y="4952880"/>
            <a:ext cx="3429000" cy="1905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тения, рекомендуемые для выращивания в учебных кабинета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066680"/>
            <a:ext cx="56386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6640" indent="-29664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иффенбахия.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чищает воздух от токсинов, формальдегида, трихлорэтилена, бензола. Это растение рекомендуют выращивать в домах, расположенных рядом с крупными фабриками, заводами и автострадами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3047760"/>
            <a:ext cx="56386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Хлорофитум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. Очищает воздух от формальдегида и угарного газа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5181480"/>
            <a:ext cx="56386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Циссус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мболистный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. Поглощает токсические вещества   (формальдегид и другие летучие органические соединения), находящиеся в воздухе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8" name="Picture 2" descr="сканирование0015"/>
          <p:cNvPicPr/>
          <p:nvPr/>
        </p:nvPicPr>
        <p:blipFill>
          <a:blip r:embed="rId1"/>
          <a:stretch/>
        </p:blipFill>
        <p:spPr>
          <a:xfrm>
            <a:off x="5638680" y="1066680"/>
            <a:ext cx="3505320" cy="1882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сканирование0019"/>
          <p:cNvPicPr/>
          <p:nvPr/>
        </p:nvPicPr>
        <p:blipFill>
          <a:blip r:embed="rId2"/>
          <a:stretch/>
        </p:blipFill>
        <p:spPr>
          <a:xfrm>
            <a:off x="5638680" y="2971800"/>
            <a:ext cx="3505320" cy="1860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сканирование0020"/>
          <p:cNvPicPr/>
          <p:nvPr/>
        </p:nvPicPr>
        <p:blipFill>
          <a:blip r:embed="rId3"/>
          <a:stretch/>
        </p:blipFill>
        <p:spPr>
          <a:xfrm>
            <a:off x="5638680" y="4822920"/>
            <a:ext cx="3505320" cy="2035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тения, рекомендуемые для выращивания в учебных кабинета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1066680"/>
            <a:ext cx="56386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6640" indent="-29664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ансевиерия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. Хороший защитник. Очищает от энергии грубости, резкости, тяжёлых мыслей. Помогает ставить перед собой цели и достигать их. Поглощает вредные химические вещества, обладает противовирусным действием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3047760"/>
            <a:ext cx="56386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фролепис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. Выделяет отрицательные ионы, поддерживая баланс в помещении с избытком электроаппаратуры. Хорошо впитывает негативную энергию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5181480"/>
            <a:ext cx="56386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риезия блестящая.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Активизирует творчество. Даёт импульс к развитию способностей во многих сферах деятельности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5" name="Рисунок 1" descr="2572bd363583b4c28b31fcbb15df5837"/>
          <p:cNvPicPr/>
          <p:nvPr/>
        </p:nvPicPr>
        <p:blipFill>
          <a:blip r:embed="rId1"/>
          <a:stretch/>
        </p:blipFill>
        <p:spPr>
          <a:xfrm>
            <a:off x="7238880" y="0"/>
            <a:ext cx="1676520" cy="2778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сканирование0027"/>
          <p:cNvPicPr/>
          <p:nvPr/>
        </p:nvPicPr>
        <p:blipFill>
          <a:blip r:embed="rId2"/>
          <a:stretch/>
        </p:blipFill>
        <p:spPr>
          <a:xfrm>
            <a:off x="5638680" y="2514600"/>
            <a:ext cx="3505320" cy="2301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сканирование0013"/>
          <p:cNvPicPr/>
          <p:nvPr/>
        </p:nvPicPr>
        <p:blipFill>
          <a:blip r:embed="rId3"/>
          <a:stretch/>
        </p:blipFill>
        <p:spPr>
          <a:xfrm>
            <a:off x="5638680" y="4800600"/>
            <a:ext cx="3505320" cy="2057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тения, рекомендуемые для выращивания в учебных кабинета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1066680"/>
            <a:ext cx="56386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хистахис жёлтый.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Даёт ощущение веселья и бодрости. Пробуждает дух предпринимательства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3047760"/>
            <a:ext cx="56386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ларгония щитовидная.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нижает общее содержание микробов в помещении на 80% (уничтожает стафилококк, стрептококк кишечную палочку, споры патогенных грибов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5181480"/>
            <a:ext cx="56386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ортензия крупнолистная.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Хорошая энергетика, помогает избавиться от перенапряжения, успокаивает, стабилизирует эмоциональное состояние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2" name="Picture 2" descr="сканирование0014"/>
          <p:cNvPicPr/>
          <p:nvPr/>
        </p:nvPicPr>
        <p:blipFill>
          <a:blip r:embed="rId1"/>
          <a:stretch/>
        </p:blipFill>
        <p:spPr>
          <a:xfrm>
            <a:off x="5562720" y="1066680"/>
            <a:ext cx="3581280" cy="201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сканирование0004"/>
          <p:cNvPicPr/>
          <p:nvPr/>
        </p:nvPicPr>
        <p:blipFill>
          <a:blip r:embed="rId2"/>
          <a:stretch/>
        </p:blipFill>
        <p:spPr>
          <a:xfrm>
            <a:off x="5562720" y="3006720"/>
            <a:ext cx="3581280" cy="1889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сканирование0005"/>
          <p:cNvPicPr/>
          <p:nvPr/>
        </p:nvPicPr>
        <p:blipFill>
          <a:blip r:embed="rId3"/>
          <a:stretch/>
        </p:blipFill>
        <p:spPr>
          <a:xfrm>
            <a:off x="5562720" y="4889520"/>
            <a:ext cx="3581280" cy="1968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тения, рекомендуемые для выращивания в учебных кабинета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1066680"/>
            <a:ext cx="56386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Хризантема.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Уменьшает содержание вредных химических веществ в воздухе помещений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3047760"/>
            <a:ext cx="56386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рацена.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тносится к самым мощным зелёным фильтрам. Способна поглощать через листья и корни ксилен, бензол, формальдегид, трихлорэтилен и обезвреживать их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5181480"/>
            <a:ext cx="56386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феландра оттопыренная.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Яркая зелень листьев повышает работоспособность и может облегчить невралгию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9" name="Picture 2" descr="сканирование0008"/>
          <p:cNvPicPr/>
          <p:nvPr/>
        </p:nvPicPr>
        <p:blipFill>
          <a:blip r:embed="rId1"/>
          <a:stretch/>
        </p:blipFill>
        <p:spPr>
          <a:xfrm>
            <a:off x="5638680" y="990720"/>
            <a:ext cx="3505320" cy="1955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сканирование0017"/>
          <p:cNvPicPr/>
          <p:nvPr/>
        </p:nvPicPr>
        <p:blipFill>
          <a:blip r:embed="rId2"/>
          <a:stretch/>
        </p:blipFill>
        <p:spPr>
          <a:xfrm>
            <a:off x="5638680" y="2895480"/>
            <a:ext cx="3505320" cy="1981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сканирование0012"/>
          <p:cNvPicPr/>
          <p:nvPr/>
        </p:nvPicPr>
        <p:blipFill>
          <a:blip r:embed="rId3"/>
          <a:stretch/>
        </p:blipFill>
        <p:spPr>
          <a:xfrm>
            <a:off x="5638680" y="4849920"/>
            <a:ext cx="3505320" cy="200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щие выводы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images13"/>
          <p:cNvPicPr/>
          <p:nvPr/>
        </p:nvPicPr>
        <p:blipFill>
          <a:blip r:embed="rId1"/>
          <a:stretch/>
        </p:blipFill>
        <p:spPr>
          <a:xfrm>
            <a:off x="5562720" y="4267080"/>
            <a:ext cx="3581280" cy="25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0" y="990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емпература воздуха в кабинете   незначительно выше  санитарно-гигиенической нормы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лощадь приспособлений для проветривания соответствует норме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лощадь, приходящаяся на одного ученика, не соответствует норме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асстановка мебели и оборудования рациональная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ачество используемых материалов и их цветовое оформление соответствует норме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омнатные растения, растущие в классе, различны по видовому и количественному составу, большинство из них оказывает положительное влияние на экологию кабинета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8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екомендации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images13"/>
          <p:cNvPicPr/>
          <p:nvPr/>
        </p:nvPicPr>
        <p:blipFill>
          <a:blip r:embed="rId1"/>
          <a:stretch/>
        </p:blipFill>
        <p:spPr>
          <a:xfrm>
            <a:off x="5562720" y="4114800"/>
            <a:ext cx="3581280" cy="2743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0" y="990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 целью улучшения микроклимата в кабинете проветривание производить чаще,  для снижения температуры воздуха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екомендовать администрации школы уменьшить количество посадочных мест в кабинете начальных классов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оздать благоприятные условия для роста и развития растений 1, 2, 3 групп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екомендовать всем учителям школы размещать в кабинетах только те    растения, которые благоприятно влияют на окружающую среду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4191120"/>
            <a:ext cx="9372600" cy="1828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ема: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Исследование кабинета начальных классов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800240" y="-360"/>
            <a:ext cx="4343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Школьная научно-практическая конференция школьников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«Родник знаний»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Секция «Начальная школа»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5306760" y="5946120"/>
            <a:ext cx="360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 работы:             Зернина Александ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илина Алёна Иванов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орова И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учение экологоразвивающей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реды кабинета начальных класс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380880" y="1600200"/>
            <a:ext cx="79250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. Изучить основные факторы окружающей сред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. Выяснить их соответствие общепринятым санитарно-гигиеническим норм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. Разработать и осуществить меры по улучшению окружающей среды классного кабине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4. Предложить администрации школы  меры, направленные на создание благоприятных условий для здоровья и развития учащихся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ограмма исследования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228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1.Изучение микроклимата классной комнаты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2. Описание качества и расстановки мебели и оборудования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3. Качество материалов, используемых в кабинете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4. Анализ качества озеленения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зультаты работы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j0233219"/>
          <p:cNvPicPr/>
          <p:nvPr/>
        </p:nvPicPr>
        <p:blipFill>
          <a:blip r:embed="rId1"/>
          <a:stretch/>
        </p:blipFill>
        <p:spPr>
          <a:xfrm>
            <a:off x="0" y="2895480"/>
            <a:ext cx="4419720" cy="39625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Микроклимат классного помещ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609120"/>
            <a:ext cx="815328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1. Температура воздуха классной комнаты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3520" y="955800"/>
          <a:ext cx="7696080" cy="590220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282680"/>
                <a:gridCol w="799920"/>
                <a:gridCol w="1765440"/>
                <a:gridCol w="1282680"/>
              </a:tblGrid>
              <a:tr h="32364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е изм.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 С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е изм.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 С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е  из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есуточная темп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тветствие норм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1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172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11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11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11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11. 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172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11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11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11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1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172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11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1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1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.12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172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.12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12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12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.12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172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2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2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2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12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172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12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12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12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12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172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12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2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12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2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172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12.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есячная температура ( 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p:transition>
    <p:circl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j0237615"/>
          <p:cNvPicPr/>
          <p:nvPr/>
        </p:nvPicPr>
        <p:blipFill>
          <a:blip r:embed="rId2"/>
          <a:stretch/>
        </p:blipFill>
        <p:spPr>
          <a:xfrm>
            <a:off x="3429000" y="4762440"/>
            <a:ext cx="2384280" cy="2095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2.Определение степени проветриваемост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бинет начальных классов: S = 45 м</a:t>
            </a:r>
            <a:r>
              <a:rPr b="0" lang="ru-RU" sz="2400" spc="-1" strike="noStrike" baseline="30000">
                <a:solidFill>
                  <a:srgbClr val="ffff00"/>
                </a:solidFill>
                <a:latin typeface="Arial"/>
              </a:rPr>
              <a:t>2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садочных мест в классе 30. На одного человека приходится 1,5м</a:t>
            </a:r>
            <a:r>
              <a:rPr b="0" lang="ru-RU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.  Площадь на одного учащегося меньше нормы, предлагаемой  СанПиНом (2,5 м</a:t>
            </a:r>
            <a:r>
              <a:rPr b="0" lang="ru-RU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), т.е. не соответствует гигиеническим нормам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7242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 результатам исследования условий для проветривания кабинета на 4500 дм</a:t>
            </a:r>
            <a:r>
              <a:rPr b="0" lang="ru-RU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поверхности пола необходимо иметь 91 дм</a:t>
            </a:r>
            <a:r>
              <a:rPr b="0" lang="ru-RU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форточки, у нас получилось 92 дм</a:t>
            </a:r>
            <a:r>
              <a:rPr b="0" lang="ru-RU" sz="2400" spc="-1" strike="noStrike" baseline="30000">
                <a:solidFill>
                  <a:srgbClr val="ffff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Следовательно, площадь приспособлений для проветривания соответствует норме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чество материалов, используемых в кабинете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 кабинете деревянные парты и шкафы. Стены  оклеены бумажными обоями бежевого цвета. Цвет    мебели (цвет натурального дерева) и жалюзи сочетается с  оформлением кабинета.  В кабинете есть комнатные цветы.  Окна ориентированы на южную сторону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3920" indent="-3139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ассная доска тёмно-зелёного цвета. Рабочая поверхность доски  ровная.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3920" indent="-3139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Таким образом качество материалов, используемых в кабинете  цветовое оформление соответствует требованиям СанПиН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3920" indent="-3139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чество озеленения классного помещения.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240" y="5335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Изучение условий, необходимых для успешного роста комнатных растений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676520"/>
          <a:ext cx="9144000" cy="50292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7872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сло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звание растени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1016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ень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остаточно далеко от окна, но света достаточно, чтобы днем читать газет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ансивиерия, Антуриум Анд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31508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лутень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озле неосвещаемого солнцем окна или в стороне от хорошо освещенного ок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циндапус, Циссус ромболистный, Пеперомия, Плектрант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1508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ветло, но без солнечных луче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доконник окна, куда не попадают прямые солнечные лучи, или место близ ярко освещенного ок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гония, Диффенбахия, Хлорофитум, Нефролепи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01016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олнечное окн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доконник южного окна или место в непосредственной близости от нег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ибискус, Кордил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>
    <p:circl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86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Определение влияния различных комнатных растений на окружающую среду и здоровье человека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7960" y="2133720"/>
            <a:ext cx="3809880" cy="39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304920" y="1447920"/>
          <a:ext cx="8534160" cy="501156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81576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рупп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звание раст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54332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 Растения, летучие выделения которых обладают выраженной антибактериальной, антивирусной активностью в отношении воздушной микрофлор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ибискус, Антуриум Андре, Диффенбахия, Сансивие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81576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. Растения,   которые обладают, другими лечебными действия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ибискус, Плектрант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102096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. Растения-фитофильтры, поглощающие из воздуха вредные газ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Хлорофитум, бегония, Циссус, нефролепи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81576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. Растения, выделения которых могут вызвать у людей аллерг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иффенбах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>
    <p:circl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cretar</cp:lastModifiedBy>
  <dcterms:modified xsi:type="dcterms:W3CDTF">2010-09-20T11:17:03Z</dcterms:modified>
  <cp:revision>35</cp:revision>
  <dc:subject/>
  <dc:title>Слайд 1</dc:title>
</cp:coreProperties>
</file>